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5E4CC-7EBA-42FC-980C-C38ED705C34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FE349-87D9-4E87-ABAC-0E3B4ADE68A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D8ECE-6F1E-42A8-87E2-1EA9E965B2D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3CCEE-2564-45BB-81B7-00290453960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52799-2D2A-4628-9CA0-6ED5C9C8905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1C943-3870-4B63-A56B-B0186780CB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3B67D-B3F4-4111-985C-51D6458A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A24E2-F7D8-4639-912B-D1D82886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67582-FDB1-4C9D-BF8F-9E67299B38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87E4C-910F-43BF-983E-31727D79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76F31-E685-409D-8B80-96010D02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13013-554B-4074-9C4C-FC3EF31F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1CB0B-C75B-4664-B29B-5987D160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D7A1C-A163-45E7-B01D-ED127E51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70024-A28A-431F-ADA3-BFFCA50A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5C19F-2F34-4FC9-BDA3-BC0C77AD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DA167-B4D5-497C-8C01-121FC206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59B6561-EF13-48D8-BF6E-B90078A06849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 rot="5400000">
            <a:off x="-56844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estructur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 DINÁMICA DE LA ATMÓSF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dinámica de la atmósf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971640" y="1197000"/>
            <a:ext cx="792144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atmósfera se dan movimientos de convección muy similares a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que se observan en la geosfe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os movimientos de masas de aire son lo que denominamos vie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dinámica de la atmósf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>
            <a:off x="2879640" y="2549520"/>
            <a:ext cx="3240000" cy="3749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684360" y="3284640"/>
            <a:ext cx="20872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Sol calienta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superficie de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Tierra, y esta a su vez calienta el aire en contacto con ella. Este aire caliente, menos denso, ascien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 rot="2160000">
            <a:off x="2370240" y="5184720"/>
            <a:ext cx="1509480" cy="146160"/>
          </a:xfrm>
          <a:prstGeom prst="rightArrow">
            <a:avLst>
              <a:gd name="adj1" fmla="val 34648"/>
              <a:gd name="adj2" fmla="val 108392"/>
            </a:avLst>
          </a:prstGeom>
          <a:solidFill>
            <a:srgbClr val="c5000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6659640" y="2565360"/>
            <a:ext cx="248436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 ascender, el aire caliente desplaza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aire frío de las capas altas, que al ser más denso, descien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12"/>
          <p:cNvSpPr/>
          <p:nvPr/>
        </p:nvSpPr>
        <p:spPr>
          <a:xfrm rot="9420000">
            <a:off x="5248440" y="3633840"/>
            <a:ext cx="1366560" cy="139680"/>
          </a:xfrm>
          <a:prstGeom prst="rightArrow">
            <a:avLst>
              <a:gd name="adj1" fmla="val 34648"/>
              <a:gd name="adj2" fmla="val 108977"/>
            </a:avLst>
          </a:prstGeom>
          <a:solidFill>
            <a:srgbClr val="0084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13 CuadroTexto"/>
          <p:cNvSpPr/>
          <p:nvPr/>
        </p:nvSpPr>
        <p:spPr>
          <a:xfrm>
            <a:off x="250920" y="3357720"/>
            <a:ext cx="360360" cy="36828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14 CuadroTexto"/>
          <p:cNvSpPr/>
          <p:nvPr/>
        </p:nvSpPr>
        <p:spPr>
          <a:xfrm>
            <a:off x="6300720" y="2637000"/>
            <a:ext cx="358920" cy="36828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ya</cp:lastModifiedBy>
  <dcterms:modified xsi:type="dcterms:W3CDTF">2011-09-01T09:18:12Z</dcterms:modified>
  <cp:revision>46</cp:revision>
  <dc:subject/>
  <dc:title>Diapositiva 1</dc:title>
</cp:coreProperties>
</file>